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E67-CD36-4493-A3EA-F6270143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24E-8093-41CF-90EC-BBB3D5F9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684-0BE8-49AF-848C-E9F762A1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A0E-2512-4C48-8E65-F11D4F5E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A10-E086-408A-9536-B685FFC6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90F-AF95-4B52-9D4E-60824B9F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9C18-DAE8-4AB2-A030-A2ECD302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BB3-17DF-47EE-B678-A3653A3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443-5E4A-4C51-864E-668C955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06A3-0A19-4889-9916-61CE81AE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985-C18B-44B2-BF3A-4ABF11FE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B99-6B7C-49F3-9924-715B8BA1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3C6-5252-45BC-90D9-3FC4FE6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DE9-EBEF-4C6A-B01F-03402C6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FB6-DC91-4FAA-A632-2C8541C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1F0-CFDE-47F4-ABEB-00BACF28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C985-9354-4E0A-AAB3-146B3806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98F-594E-4622-B506-01B5B74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5A8-4772-4256-9FB6-FF0E66C4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00A-7462-407E-B780-ED423B4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016-CDC5-42C2-8298-1E92E0A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5F0-BB75-46FB-80A5-7E664B7F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745-A3C5-43AB-9A0C-02EC17C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5AF-5F1E-4E90-8A51-FB547D8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2F8-F2C1-4E76-87B4-A95819C9FA8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9A50-06CA-4EBB-99F3-D58E3201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ztpc.en.alibaba.com/product/50183059/50212248/Tables_Chairs_and_Stools/Patio_Furniture__Plastic_Chair__Outdoor_Furniture__Armchair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wards.com/wards/referral.asp?DMSIID=107&amp;show=prod_display1.asp&amp;product=84059&amp;PID=365&amp;CMB=8-365&amp;partner=0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ore.franswicker.com/bmonsetglmot.html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ore.franswicker.com/tifporset1.html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modern.com/p/35767.asp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vvsofa.en.alibaba.com/product/50072686/50332710/Modern_Metal_and_Glass_Furniture/Modern_Metal_and_Glass_Coffee_Table.htm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forward.en.alibaba.com/product/50035261/50160765/Glass_Furniture/Glass_Furniture.html" TargetMode="External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Furniture Construction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5.02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Dovetail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sed to fasten corner joints in drawers. Found in good-quality furniture. Can take strong pulls or strai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2590920" cy="244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2857320" cy="157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75040" y="4191120"/>
            <a:ext cx="22399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utt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weakest joint. One board is glued or nailed to another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37335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orner Block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mall pieces of wood attached between corner boards, reinforce &amp; support joints. Used in tables, chairs, upholstered furniture frame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9" name="" descr="Closeup images of glue blocks bracing corners on wooden furniture."/>
          <p:cNvPicPr/>
          <p:nvPr/>
        </p:nvPicPr>
        <p:blipFill>
          <a:blip r:embed="rId1"/>
          <a:stretch/>
        </p:blipFill>
        <p:spPr>
          <a:xfrm>
            <a:off x="3581280" y="4572000"/>
            <a:ext cx="518184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Tongue-and-groov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tongue is cut on one board and matching groove is cut on another. If done correctly, joint is invisible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Tongue and Groove Joint"/>
          <p:cNvPicPr/>
          <p:nvPr/>
        </p:nvPicPr>
        <p:blipFill>
          <a:blip r:embed="rId1"/>
          <a:stretch/>
        </p:blipFill>
        <p:spPr>
          <a:xfrm>
            <a:off x="4572000" y="3922560"/>
            <a:ext cx="354348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Mitered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2 edges are cut at a 45 degree angle and joined to form a square corner. Joint is then glued and sometimes reinforced with nails, dowels, a spline or glue block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Upholstered furnitur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hairs, sofas, and other pieces of padded furni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ll exposed surfaces are covered with fabric so all inner construction details are hidden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Good quality furniture has durable, well-tailored upholstery fabri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stic Furniture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ess expensive than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ightweight, sturdy, easy to clea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ooks best in modern/contemporary setting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9" name="" descr="Conversion Products - company specialists in modern, outdoor, patio, home and garden furniture - Adirondack Chair"/>
          <p:cNvPicPr/>
          <p:nvPr/>
        </p:nvPicPr>
        <p:blipFill>
          <a:blip r:embed="rId1"/>
          <a:stretch/>
        </p:blipFill>
        <p:spPr>
          <a:xfrm>
            <a:off x="3276720" y="380988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stic furnitur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2" name="" descr="Patio Furniture, Plastic Chair, Outdoor Furniture, Armchair (Chin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3000" y="3429000"/>
            <a:ext cx="2288880" cy="2362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 Plastic Furniture, Table, Childrens Furniture, Chair, Kids' Furniture"/>
          <p:cNvPicPr/>
          <p:nvPr/>
        </p:nvPicPr>
        <p:blipFill>
          <a:blip r:embed="rId3"/>
          <a:stretch/>
        </p:blipFill>
        <p:spPr>
          <a:xfrm>
            <a:off x="3124080" y="16002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plastic lumber furniture"/>
          <p:cNvPicPr/>
          <p:nvPr/>
        </p:nvPicPr>
        <p:blipFill>
          <a:blip r:embed="rId4"/>
          <a:stretch/>
        </p:blipFill>
        <p:spPr>
          <a:xfrm>
            <a:off x="2133720" y="411480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etal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opular as indoor and outdoor furni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rought iron, aluminum, chrome…often combined with wood, glass, &amp; fabri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7" name="" descr="Metal Bed 1"/>
          <p:cNvPicPr/>
          <p:nvPr/>
        </p:nvPicPr>
        <p:blipFill>
          <a:blip r:embed="rId1"/>
          <a:stretch/>
        </p:blipFill>
        <p:spPr>
          <a:xfrm>
            <a:off x="1371600" y="38862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4796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406728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362320"/>
            <a:ext cx="3047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ypes of 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ardwoods: come from deciduous trees (lose their leaves). Walnut, mahogany, pecan, cherry, maple, oak. Expensive, does not dent easil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ftwoods: come from coniferous or evergreen trees (do not shed leaves &amp; can have a cone). Cedar, redwood, pine, fir, spruce. Dents easily, grain is not as attractive as hardwoods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attan, Wicker, Bambo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ombines natural wood frames with woven stems or branch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att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from stringy, tough stems of palm trees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Bend easily and are strong, works best in casual setting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7" name="" descr="&lt;b&gt;Monterey Set/5&lt;font color=&quot;red&quot;&gt;&lt;br&gt;Price: $945&lt;/font&gt;&lt;/b&g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19112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ick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by weaving thin, flexible branches around a frame, can be varnished or painted, water resistant, durable, natural gloss, lightweigh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0" name="" descr="&lt;b&gt;Tiffany Porch Set/4&lt;br&gt;&lt;font color=&quot;black&quot;&gt;Price: $595&lt;/font&gt;&lt;/b&g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91120"/>
            <a:ext cx="4343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ambo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from tall tropical grasses with hollow stems. Can be combined with ratta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3" name="" descr="#12"/>
          <p:cNvPicPr/>
          <p:nvPr/>
        </p:nvPicPr>
        <p:blipFill>
          <a:blip r:embed="rId1"/>
          <a:stretch/>
        </p:blipFill>
        <p:spPr>
          <a:xfrm>
            <a:off x="5029200" y="35053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#16"/>
          <p:cNvPicPr/>
          <p:nvPr/>
        </p:nvPicPr>
        <p:blipFill>
          <a:blip r:embed="rId2"/>
          <a:stretch/>
        </p:blipFill>
        <p:spPr>
          <a:xfrm>
            <a:off x="838080" y="3505320"/>
            <a:ext cx="327672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las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ually combined with metal or wood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Good for tabletops and cabinet doo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Modern Metal and Glass Coffee Tab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34290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Glass Furnitu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35812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rames, Springs, Cush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Frame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pholstered furniture frames are usually made of solid wood or metal. Joints should be secured with screws and corner block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part of the inner construction. The type and number determine the qualit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oil 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piral shaped without padding and covering. Used in heavier furniture. Average chair has 9-12 springs per seat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Flat or zigzag 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sed with lightweight pieces of furniture and are flat, S-shaped springs that may have metal support strips banded across them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Offers firm comfort at a lower pri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ushions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eed to be proper siz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t snugly into furnitur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Give body and suppor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ually made of urethane foam or foam rubber. Down or feathers are not durab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Loose fill can also be used for pillows. Will lose shap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n be molded into any size or shap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nclude stains, sealers, waxes and paints that protect and improve the appearance of the wood surfa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ater-based and oil-based stains bring out the natural beauty of wood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alers can be penetrating or on the surface of the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oli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all exposed parts of a piece of furniture is made from whole pieces of wood, usually $$$$, has a tendency to warp, swell, and crack or spli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onde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bonded by glue and pressure, includes veneered &amp; pressed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s con’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lastic sealers resists mois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ax is used to preserve the wood and gives an attractive loo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int is used to hide unattractive surfaces. Can also be used to enhance the look by being decorativ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ddddd"/>
                </a:solidFill>
                <a:uFillTx/>
                <a:latin typeface="Arial"/>
              </a:rPr>
              <a:t>Housing Decisions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 pages 343-354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ddddd"/>
                </a:solidFill>
                <a:uFillTx/>
                <a:latin typeface="Arial"/>
              </a:rPr>
              <a:t>Housing and Interiors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, pages 600-614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pierone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target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plowandhearth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wickerparadise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.co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furniturebrains.co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dixieline.com/woodjoint/woodjoints.ht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orinda.k12.ca.us/OIS/IT/wood-joints.ht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Copyright ©2007, ABCD, All rights reserved.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Veneered woo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or plywood: created by bonding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3,5,or 7 thin layers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of wood to one another, to a solid core, or pressed wood core. Fine wood is used on the outside and cheaper wood on insid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DV: Makes fragile wood strong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s.Adv: adhesive that bonds veneer may not stick, causing veneer to loosen and chip or crack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Presse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made of shavings, veneer scraps, chips, &amp; other small pieces of wood and is called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particleboar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, wafer board, composite boar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ed on parts of wood that do not show and can be covered with laminate/plastic covering for durabilit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 Grain or patter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umber is cut to show off the patter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tump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irregular grain formed by twisted and irregular growth of tree’s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roo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rotch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pecial grain caused by branches growing out from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trunk of tre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url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woody, flattened outgrowths on tree, unique and $$$$$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d and Unfinished 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Soli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walnut: exposed wood is same throughout entire pie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alnu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veneer: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surface is covered with thin sheets of walnut wood while rest of piece is usually particle board or other inexpensive woo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alnu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finish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: has a finish (paint/varnish) whose color is same as walnu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 Joi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Mortise-and –tenon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one of the strongest joints, glued tenon fits into mortise (hole), no nails/screws used. Legs of chai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1981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Dowel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mall wood pegs that are glued into the holes of pieces of wood being joined together. Used as reinforcemen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7339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7:18:23Z</dcterms:created>
  <dc:creator>s.brooks</dc:creator>
  <dc:description/>
  <dc:language>en-US</dc:language>
  <cp:lastModifiedBy>s.brooks</cp:lastModifiedBy>
  <dcterms:modified xsi:type="dcterms:W3CDTF">2008-10-13T16:59:42Z</dcterms:modified>
  <cp:revision>31</cp:revision>
  <dc:subject/>
  <dc:title>Furniture Construction</dc:title>
</cp:coreProperties>
</file>